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glass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B26BE-C278-4DEC-8CE6-9EA95BFA440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NUCLEAR MAGNETIC RESONANCE SPECTROSCOP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-an ideal tool for Diagnosis &amp;     Drug Design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B. HASEENA BANU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sst.Professor,SriPadmavathi School of Pharmacy,Tiruchanoor,Tirupati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UCLEAR MAGNETIC RESONANCE SPECTROSCOP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an ideal tool for Diagnosis &amp;     Drug Desig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. HASEENA BAN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sst.Professor,SriPadmavathi School of Pharmacy,Tiruchanoor,Tirupa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NMR IN PHARMACEUTICAL RESEARCH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Leading technology for 3-D structure   determination of bio-macromolecul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tudying protein structure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AR by NMR – Novel lead compounds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hemical  shift mapping – Structural information on the binding modes and site positio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Molecular dynamics, conformational analysi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HAP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NMR – SOLV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MR IN PHARMACEUTICAL 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eading technology for 3-D structure   determination of bio-macromolec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udying protein structur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AR by NMR – Novel lead compound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emical  shift mapping – Structural information on the binding modes and site pos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lecular dynamics, conformational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HA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MR – SOL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ructural genomics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dentifying gene products in disease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argets of drug design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velopment of Novel drug delivery system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nhancing HTS assay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ousands of compound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ryogenic NMR technology / cryoprob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al genomic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ntifying gene products in diseas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rgets of drug desig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elopment of Novel drug delivery syst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hancing HTS ass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usands of compou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yogenic NMR technology / cryoprob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NMR Nobel Prize Laureat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he Nobel Prize in Physics 1943, Ohostern, USA – Discovery of magnetic moment of prot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he Nobel Prizein Physics 1952- IsidorJ. Rafi,USA – Discovery of new methods for nuclear magnetic precis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he Nobel Prize in Chemistry 1991 – Felix Bloch, USA and Edward M. Purcell, USA – Methodology of high resolution NMR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he Nobel Prize in Chemistry 2002 – Kurt Wuthrich, Switzerland – Determining 3-D Structure by NMR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he Nobel Prize in Medicine 2003 – Paul C. Lauterbur, USA and Peter Mans field, U.K. – Discoveries concerning MRI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MR Nobel Prize Laure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Nobel Prize in Physics 1943, Ohostern, USA – Discovery of magnetic moment of prot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Nobel Prizein Physics 1952- IsidorJ. Rafi,USA – Discovery of new methods for nuclear magnetic preci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Nobel Prize in Chemistry 1991 – Felix Bloch, USA and Edward M. Purcell, USA – Methodology of high resolution NM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Nobel Prize in Chemistry 2002 – Kurt Wuthrich, Switzerland – Determining 3-D Structure by NM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Nobel Prize in Medicine 2003 – Paul C. Lauterbur, USA and Peter Mans field, U.K. – Discoveries concerning MR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HANKING YOU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ANKING YO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TENT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ASIC PRINCIPL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FFERENT TECHNIQU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PPLICATIONS OF NMR IN MEDICIN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LINICAL APPLICATIONS IN DIAGNOSI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RUG DEVELOPMEN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MR Nobel prize laureat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IC PRINCI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T TECHNIQ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S OF NMR IN MEDIC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NICAL APPLICATIONS IN DIAGN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UG 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MR Nobel prize laure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ASIC PRINCIPLE  IN NM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tomic nuclei – tiny magnet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 external magnetic field - allign or oppos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f irradiated with EMR of proper frequency – Resonanc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√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α βo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RAMETER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emical shifts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pin lattice relaxation tim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IC PRINCIPLE  IN NM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ic nuclei – tiny magn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external magnetic field - allign or opp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rradiated with EMR of proper frequency – Reson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√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α β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ical shif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n lattice relaxation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DIFFERENT TECHNIQU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Based on nuclei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H1 NM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13  NM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F13  NMR &amp; P31 NM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N15  NMR &amp; O17 NM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WNM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FTNM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2D_NMR &amp;3D_NM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OSY _CORRELATION SPECTROSCOP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MRI_MAGNETIC RESONANCE IMAGIN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ESR_ELECTRON SPIN RESONANCE SPECTROSCOP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FFERENT TECHNIQ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ased on nucle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1 NM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13  NM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13  NMR &amp; P31 NM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15  NMR &amp; O17 NM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WNM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TNM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D_NMR &amp;3D_NM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SY _CORRELATION SPECTROSCOP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RI_MAGNETIC RESONANCE IMAG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SR_ELECTRON SPIN RESONANCE SPECTROSCOP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PPLICATIONS OF NMR IN MEDICINE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LINICAL APPLICATION OF PROTON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IMAGING IN DIAGNOSI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BRAI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Distinguishing gray matter &amp; white matte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Imaging posterior fossae, brain stem, spinal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or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Detect demyelinating lesions, tumors,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hemorrhages, infarctio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PPLICATIONS OF NMR IN MEDICINE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INICAL APPLICATION OF PROTON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MAGING IN DIAGN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R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stinguishing gray matter &amp; white ma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maging posterior fossae, brain stem, spinal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tect demyelinating lesions, tumors,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morrhages, infar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BDOME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Metabolic liver diseas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Measures liver iron over load in hemochromatosi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Focal areas of inflammation in chronic active hepatisi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KIDNEY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Distinguishing renal cortex &amp; medull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o evaluate transplanted  kidne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PELVI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Differentiates between  Benign prostatic hyperplasia   &amp; prostatic carcinom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Detects bladder tumour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BDO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etabolic liver dis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easures liver iron over load in hemochromat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ocal areas of inflammation in chronic active hepati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IDNE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stinguishing renal cortex &amp; medul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 evaluate transplanted  kidn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ELV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fferentiates between  Benign prostatic hyperplasia   &amp; prostatic carcino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tects bladder tumou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MEDIASTINUM, HILUM, LUN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ssessing  abnormaliti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Respiratory gatin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HEAR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omographic images of heart muscle, chambers, valvular structur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ECHO-PLANAR TECHNIQU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Discrimination between infarcted, ischemic &amp; normal myocardiu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BREAS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3D-NMR &amp; single-slice planar imaging in detecting breast abnormaliti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EDIASTINUM, HILUM, LU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ssessing  abnorm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spiratory ga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mographic images of heart muscle, chambers, valvular struc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CHO-PLANAR TECHNIQ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scrimination between infarcted, ischemic &amp; normal myocard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R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3D-NMR &amp; single-slice planar imaging in detecting breast abnorm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MUSCULO SKELETAL SYSTE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Demonstrates Osteo  myelitis, tumor metastasis in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vertebral bodies &amp; pelvic bon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Images of muscles, tendons, ligament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BLOOD VESSELS &amp; FLOW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therosclerotic vascular disease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ssess blood flow in major vessel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INVIVO SPECTROSCOP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hemical shift phenomen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Diagnosis of rare disease to inborn errors-</a:t>
            </a:r>
            <a:br>
              <a:rPr sz="1200"/>
            </a:b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Mc Ardle’s syndrome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INVIVO Analysis of Bone flouride content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USCULO SKELETAL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monstrates Osteo  myelitis, tumor metastasis in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ertebral bodies &amp; pelvic b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mages of muscles, tendons, liga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LOOD VESSELS &amp; F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therosclerotic vascular diseas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ssess blood flow in major vesse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VIVO SPECTROSCOP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emical shift phenomen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agnosis of rare disease to inborn errors-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c Ardle’s syndrom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VIVO Analysis of Bone flouride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UTTING  NMR  IMAGING INTO   PERSPECTIV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liminates risk of x-radia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cellent spatial &amp; contrast resolution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tecting diseases at earlier stag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TTING  NMR  IMAGING INTO   PERSPE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iminates risk of x-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llent spatial &amp; contrast resolu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tecting diseases at earlier st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77046-0130-4821-9CD1-239A0A56C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A9EE9-01E9-4C0D-A286-153E7A23B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743E5-1866-4BA1-9826-FCC56BFD1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B8BB6-7850-4430-A160-8A0AB98FB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36C66-3FC6-4DAF-B7A1-6F003A78E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58CDF-F993-4204-BAB7-643AAAC90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5180A-EB9A-4D8B-A3BF-29184677F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21E4C-C002-4BB5-832B-02C30652C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26B98-7629-4A88-8152-1CF0D246D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923F2-ABAD-45A6-AC55-52ADC886E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CEEFF-595A-439E-B8D9-6BB953AF1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958FF-0595-4182-A0BD-5AF90B07E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9A33B-6D38-40A5-A069-1F676B1C7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4D16A-AFA8-404E-A506-A14706F74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D0E70-64EF-44BC-9486-7D5264D83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8DC2E-5DE6-4788-973F-7B10F6D9A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EF846-66B7-483A-B08A-18C47A754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AFBA2B-7424-486A-B217-090663B8A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2D8446-7D43-4F08-A96A-D7981F17C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AF31BC-2669-4690-982C-53F7416D5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8AB1DF-AEC0-45AF-AEF5-B6988B7FC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94C37E-BCC1-491D-B625-77AEAE127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4A436-81B0-43B2-9A62-DE389D074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D5316A-45F9-456F-863D-D85F0DBFD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9DE712-EEC2-431F-A339-A58E5EF49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FA9D50-D756-4BD1-9A20-7B628C4F2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63F4BE-736F-4765-9E02-4A54F0219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8ABF72-040B-486C-871E-530DAC028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578CB2-6A3C-471E-8C70-08F999F65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745AE5-0C75-4D2C-91F1-4975E19B9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DFB92A0-9AFE-486A-98DD-31C2EA120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309D2F9-6CAF-49E9-BAB2-FF155C963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A9116D0-2772-4D97-BC93-2E3437325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025B1-D0FA-4209-B815-1CCEF1CFA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0E7B657-0C66-4DCC-9451-BAF1498AB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E0E4B50-29FD-4207-8D46-EE4A388B2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677351C-3AA3-4383-8106-764F78527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67DB96A-0093-4403-97B7-1469DC75B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B908281-BEFF-444D-B1A1-F4E50F1D1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F12AEA3-D8E9-4479-91B3-6CD8FE302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9AEB611-ED03-4723-A0EB-478BDC03F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230B04F-2865-48F9-B688-93BB89C1C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8F19D74-51F1-462C-9EA5-161B40490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95B39-E06F-4BF0-A4A8-1B7E4256D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6A995-1B4D-4EBB-90B2-6E6858194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424F4-408D-4E40-BB50-3C68FFC39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B04B7-308D-485C-A98F-9EFCA4649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7968B-FC7D-47B3-8D9E-CC699914B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5B83C-1C26-4D41-B580-E8FC007BDA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77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79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80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81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82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83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4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5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6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7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88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89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90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1CD1A-A314-4A25-994D-B27BC2DD65F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38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9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0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1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2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3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4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5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6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7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8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9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0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1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2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3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4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5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6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7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8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9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0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1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2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3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4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5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6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7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8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9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0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1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7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8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9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22A30-5D06-40BF-875B-1128D200C6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3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214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5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16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17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218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219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220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1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2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3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4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225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26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227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8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9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0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1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2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23CF8-E329-4F32-ADD2-A0DB20C3333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 type="ftr" idx="1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glass.wav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glas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glas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glas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glas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glas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glas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glas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glass.wav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glas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glas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glass.wav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glas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4"/>
          <p:cNvSpPr/>
          <p:nvPr/>
        </p:nvSpPr>
        <p:spPr>
          <a:xfrm>
            <a:off x="685800" y="152280"/>
            <a:ext cx="7772400" cy="24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 u="sng">
                <a:solidFill>
                  <a:srgbClr val="43babd"/>
                </a:solidFill>
                <a:uFillTx/>
                <a:latin typeface="Arial"/>
              </a:rPr>
              <a:t>NUCLEAR MAGNETIC RESONANCE SPECTROSCOPY</a:t>
            </a:r>
            <a:endParaRPr b="0" lang="en-US" sz="4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2" name="Rectangle 5"/>
          <p:cNvSpPr/>
          <p:nvPr/>
        </p:nvSpPr>
        <p:spPr>
          <a:xfrm>
            <a:off x="762120" y="2438280"/>
            <a:ext cx="761976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-</a:t>
            </a:r>
            <a:r>
              <a:rPr b="0" lang="en-US" sz="3600" spc="-1" strike="noStrike">
                <a:solidFill>
                  <a:srgbClr val="e3e3ff"/>
                </a:solidFill>
                <a:latin typeface="Arial"/>
              </a:rPr>
              <a:t>an ideal tool for Diagnosis &amp;     Drug Design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fefb"/>
                </a:solidFill>
                <a:uFillTx/>
                <a:latin typeface="Arial"/>
              </a:rPr>
              <a:t>B. HASEENA BANU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efb"/>
                </a:solidFill>
                <a:latin typeface="Arial"/>
              </a:rPr>
              <a:t>Asst.Professor,SriPadmavathi School of Pharmacy,Tiruchanoor,Tirupat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dissolve/>
    <p:sndAc>
      <p:stSnd>
        <p:snd r:embed="rId1" name="glas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NMR IN PHARMACEUTICAL RESEARCH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251424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Leading technology </a:t>
            </a:r>
            <a:r>
              <a:rPr b="0" lang="en-US" sz="2600" spc="-1" strike="noStrike" u="sng">
                <a:solidFill>
                  <a:srgbClr val="ffffff"/>
                </a:solidFill>
                <a:uFillTx/>
                <a:latin typeface="Tahoma"/>
              </a:rPr>
              <a:t>for 3-D structure   determination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 of bio-macromolecule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Studying protein structure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Tahoma"/>
              </a:rPr>
              <a:t>SAR by NMR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 – Novel lead compounds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Chemical  shift mapping – Structural information on the binding modes and site position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Molecular dynamics, conformational analysi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SHAPE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NMR – SOLVE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8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dissolve/>
    <p:sndAc>
      <p:stSnd>
        <p:snd r:embed="rId1" name="glas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/>
          </p:nvPr>
        </p:nvSpPr>
        <p:spPr>
          <a:xfrm>
            <a:off x="457200" y="3808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66ff"/>
                </a:solidFill>
                <a:latin typeface="Tahoma"/>
              </a:rPr>
              <a:t>Structural genomics 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Identifying gene products in disease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Targets of drug design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ff"/>
                </a:solidFill>
                <a:latin typeface="Tahoma"/>
              </a:rPr>
              <a:t>Development of Novel drug delivery systems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9900"/>
                </a:solidFill>
                <a:latin typeface="Tahoma"/>
              </a:rPr>
              <a:t>Enhancing HTS assays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Thousands of compound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Cryogenic NMR technology / cryoprobe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0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dissolve/>
    <p:sndAc>
      <p:stSnd>
        <p:snd r:embed="rId1" name="glas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NMR Nobel Prize Laureate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380520" y="837720"/>
            <a:ext cx="84582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Nobel Prize in Physics </a:t>
            </a:r>
            <a:r>
              <a:rPr b="0" lang="en-US" sz="2800" spc="-1" strike="noStrike">
                <a:solidFill>
                  <a:srgbClr val="3de158"/>
                </a:solidFill>
                <a:latin typeface="Tahoma"/>
              </a:rPr>
              <a:t>1943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, Ohostern, USA – Discovery of magnetic moment of prot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Nobel Prizein Physics </a:t>
            </a:r>
            <a:r>
              <a:rPr b="0" lang="en-US" sz="2800" spc="-1" strike="noStrike">
                <a:solidFill>
                  <a:srgbClr val="3de158"/>
                </a:solidFill>
                <a:latin typeface="Tahoma"/>
              </a:rPr>
              <a:t>1952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IsidorJ. Rafi,USA – Discovery of new methods for nuclear magnetic precis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Nobel Prize in Chemistry </a:t>
            </a:r>
            <a:r>
              <a:rPr b="0" lang="en-US" sz="2800" spc="-1" strike="noStrike">
                <a:solidFill>
                  <a:srgbClr val="3de158"/>
                </a:solidFill>
                <a:latin typeface="Tahoma"/>
              </a:rPr>
              <a:t>1991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– Felix Bloch, USA and Edward M. Purcell, USA – Methodology of high resolution NM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Nobel Prize in Chemistry </a:t>
            </a:r>
            <a:r>
              <a:rPr b="0" lang="en-US" sz="2800" spc="-1" strike="noStrike">
                <a:solidFill>
                  <a:srgbClr val="3de158"/>
                </a:solidFill>
                <a:latin typeface="Tahoma"/>
              </a:rPr>
              <a:t>2002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– Kurt Wuthrich, Switzerland – Determining 3-D Structure by NM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Nobel Prize in Medicine </a:t>
            </a:r>
            <a:r>
              <a:rPr b="0" lang="en-US" sz="2800" spc="-1" strike="noStrike">
                <a:solidFill>
                  <a:srgbClr val="3de158"/>
                </a:solidFill>
                <a:latin typeface="Tahoma"/>
              </a:rPr>
              <a:t>2003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– Paul C. Lauterbur, USA and Peter Mans field, U.K. – Discoveries concerning MRI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3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dissolve/>
    <p:sndAc>
      <p:stSnd>
        <p:snd r:embed="rId1" name="glas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48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2e12d6"/>
                </a:solidFill>
                <a:latin typeface="Arial"/>
              </a:rPr>
              <a:t>THANKING YOU</a:t>
            </a:r>
            <a:endParaRPr b="0" lang="en-US" sz="7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15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dissolve/>
    <p:sndAc>
      <p:stSnd>
        <p:snd r:embed="rId1" name="glas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54432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de158"/>
                </a:solidFill>
                <a:latin typeface="Arial"/>
              </a:rPr>
              <a:t>CONTENT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ffff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2e12d6"/>
                </a:solidFill>
                <a:latin typeface="Tahoma"/>
              </a:rPr>
              <a:t> </a:t>
            </a:r>
            <a:r>
              <a:rPr b="0" lang="en-US" sz="3100" spc="-1" strike="noStrike">
                <a:solidFill>
                  <a:srgbClr val="2e12d6"/>
                </a:solidFill>
                <a:latin typeface="Tahoma"/>
              </a:rPr>
              <a:t>INTRODUCTION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74"/>
              </a:spcBef>
              <a:buClr>
                <a:srgbClr val="ffff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ahoma"/>
              </a:rPr>
              <a:t>BASIC PRINCIPLE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74"/>
              </a:spcBef>
              <a:buClr>
                <a:srgbClr val="ffff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ahoma"/>
              </a:rPr>
              <a:t>DIFFERENT TECHNIQUES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ffff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2e12d6"/>
                </a:solidFill>
                <a:latin typeface="Tahoma"/>
              </a:rPr>
              <a:t> </a:t>
            </a:r>
            <a:r>
              <a:rPr b="0" lang="en-US" sz="3100" spc="-1" strike="noStrike">
                <a:solidFill>
                  <a:srgbClr val="2e12d6"/>
                </a:solidFill>
                <a:latin typeface="Tahoma"/>
              </a:rPr>
              <a:t>APPLICATIONS OF NMR IN MEDICINE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74"/>
              </a:spcBef>
              <a:buClr>
                <a:srgbClr val="ffff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ahoma"/>
              </a:rPr>
              <a:t>CLINICAL APPLICATIONS IN DIAGNOSIS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74"/>
              </a:spcBef>
              <a:buClr>
                <a:srgbClr val="ffff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ahoma"/>
              </a:rPr>
              <a:t>DRUG DEVELOPMENT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ffff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2e12d6"/>
                </a:solidFill>
                <a:latin typeface="Tahoma"/>
              </a:rPr>
              <a:t> </a:t>
            </a:r>
            <a:r>
              <a:rPr b="0" lang="en-US" sz="3100" spc="-1" strike="noStrike">
                <a:solidFill>
                  <a:srgbClr val="2e12d6"/>
                </a:solidFill>
                <a:latin typeface="Tahoma"/>
              </a:rPr>
              <a:t>NMR Nobel prize laureates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6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dissolve/>
    <p:sndAc>
      <p:stSnd>
        <p:snd r:embed="rId1" name="glas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54432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bbd71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e12d6"/>
                </a:solidFill>
                <a:latin typeface="Tahoma"/>
              </a:rPr>
              <a:t>BASIC PRINCIPLE  IN NM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tomic nuclei – tiny magne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 external magnetic field - allign or oppos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f irradiated with EMR of proper frequency – Resonan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√  </a:t>
            </a:r>
            <a:r>
              <a:rPr b="0" lang="el-GR" sz="2800" spc="-1" strike="noStrike">
                <a:solidFill>
                  <a:srgbClr val="ffffff"/>
                </a:solidFill>
                <a:latin typeface="Tahoma"/>
                <a:ea typeface="Arial"/>
              </a:rPr>
              <a:t>α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 </a:t>
            </a:r>
            <a:r>
              <a:rPr b="0" lang="el-GR" sz="2800" spc="-1" strike="noStrike">
                <a:solidFill>
                  <a:srgbClr val="ffffff"/>
                </a:solidFill>
                <a:latin typeface="Tahoma"/>
                <a:ea typeface="Arial"/>
              </a:rPr>
              <a:t>β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ahoma"/>
                <a:ea typeface="Arial"/>
              </a:rPr>
              <a:t>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	</a:t>
            </a:r>
            <a:r>
              <a:rPr b="0" lang="en-US" sz="2800" spc="-1" strike="noStrike">
                <a:solidFill>
                  <a:srgbClr val="2e12d6"/>
                </a:solidFill>
                <a:latin typeface="Tahoma"/>
                <a:ea typeface="Arial"/>
              </a:rPr>
              <a:t>PARAMET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Chemical shift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Spin lattice relaxation tim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9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dissolve/>
    <p:sndAc>
      <p:stSnd>
        <p:snd r:embed="rId1" name="glas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228600" y="190080"/>
            <a:ext cx="8686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9900"/>
                </a:solidFill>
                <a:latin typeface="Arial"/>
              </a:rPr>
              <a:t>DIFFERENT TECHNIQUES</a:t>
            </a:r>
            <a:endParaRPr b="0" lang="en-US" sz="45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Based on nuclei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0" lang="en-US" sz="2200" spc="-1" strike="noStrike" baseline="30000">
                <a:solidFill>
                  <a:srgbClr val="ffffff"/>
                </a:solidFill>
                <a:latin typeface="Tahoma"/>
              </a:rPr>
              <a:t>1 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NMR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0" lang="en-US" sz="2200" spc="-1" strike="noStrike" baseline="30000">
                <a:solidFill>
                  <a:srgbClr val="ffffff"/>
                </a:solidFill>
                <a:latin typeface="Tahoma"/>
              </a:rPr>
              <a:t>13  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NMR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F</a:t>
            </a:r>
            <a:r>
              <a:rPr b="0" lang="en-US" sz="2200" spc="-1" strike="noStrike" baseline="30000">
                <a:solidFill>
                  <a:srgbClr val="ffffff"/>
                </a:solidFill>
                <a:latin typeface="Tahoma"/>
              </a:rPr>
              <a:t>13  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NMR &amp; P</a:t>
            </a:r>
            <a:r>
              <a:rPr b="0" lang="en-US" sz="2200" spc="-1" strike="noStrike" baseline="30000">
                <a:solidFill>
                  <a:srgbClr val="ffffff"/>
                </a:solidFill>
                <a:latin typeface="Tahoma"/>
              </a:rPr>
              <a:t>31 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NMR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0" lang="en-US" sz="2200" spc="-1" strike="noStrike" baseline="30000">
                <a:solidFill>
                  <a:srgbClr val="ffffff"/>
                </a:solidFill>
                <a:latin typeface="Tahoma"/>
              </a:rPr>
              <a:t>15  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NMR &amp; O</a:t>
            </a:r>
            <a:r>
              <a:rPr b="0" lang="en-US" sz="2200" spc="-1" strike="noStrike" baseline="30000">
                <a:solidFill>
                  <a:srgbClr val="ffffff"/>
                </a:solidFill>
                <a:latin typeface="Tahoma"/>
              </a:rPr>
              <a:t>17 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NMR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CWNMR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FTNMR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2D_NMR &amp;3D_NMR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COSY _CORRELATION SPECTROSCOPY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MRI_MAGNETIC RESONANCE IMAGING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ESR_ELECTRON SPIN RESONANCE SPECTROSCOPY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2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dissolve/>
    <p:sndAc>
      <p:stSnd>
        <p:snd r:embed="rId1" name="glas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2e12d6"/>
                </a:solidFill>
                <a:latin typeface="Arial"/>
              </a:rPr>
              <a:t>APPLICATIONS OF NMR IN MEDICINE</a:t>
            </a:r>
            <a:br>
              <a:rPr sz="4800"/>
            </a:br>
            <a:endParaRPr b="0" lang="en-US" sz="4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609120" y="1980720"/>
            <a:ext cx="80010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INICAL APPLICATION OF PROTON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MAGING IN DIAGNOSI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Tahoma"/>
              </a:rPr>
              <a:t>BRAI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stinguishing gray matter &amp; white mat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maging posterior fossae, brain stem, spinal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r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tect demyelinating lesions, tumors,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emorrhages, infarc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5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dissolve/>
    <p:sndAc>
      <p:stSnd>
        <p:snd r:embed="rId1" name="glas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/>
          </p:nvPr>
        </p:nvSpPr>
        <p:spPr>
          <a:xfrm>
            <a:off x="457200" y="30456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Tahoma"/>
              </a:rPr>
              <a:t>ABDOM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tabolic liver diseas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asures liver iron over load in hemochromatosi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cal areas of inflammation in chronic active hepatisi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Tahoma"/>
              </a:rPr>
              <a:t>KIDNEY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istinguishing renal cortex &amp; medull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o evaluate transplanted  kidne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Tahoma"/>
              </a:rPr>
              <a:t>PELVI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fferentiates between  Benign prostatic hyperplasia   &amp; prostatic carcinom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tects bladder tumo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7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dissolve/>
    <p:sndAc>
      <p:stSnd>
        <p:snd r:embed="rId1" name="glas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66ff"/>
                </a:solidFill>
                <a:latin typeface="Tahoma"/>
              </a:rPr>
              <a:t>MEDIASTINUM, HILUM, LUNG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SzPct val="65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ahoma"/>
              </a:rPr>
              <a:t>Assessing  abnormalities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SzPct val="65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ffffff"/>
                </a:solidFill>
                <a:uFillTx/>
                <a:latin typeface="Tahoma"/>
              </a:rPr>
              <a:t>Respiratory gating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66ff"/>
                </a:solidFill>
                <a:latin typeface="Tahoma"/>
              </a:rPr>
              <a:t>HEART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SzPct val="65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Tahoma"/>
              </a:rPr>
              <a:t>Tomographic images of heart muscle, chambers, valvular structures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SzPct val="65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Tahoma"/>
              </a:rPr>
              <a:t>ECHO-PLANAR TECHNIQUE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SzPct val="65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Tahoma"/>
              </a:rPr>
              <a:t>Discrimination between infarcted, ischemic &amp; normal myocardium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66ff"/>
                </a:solidFill>
                <a:latin typeface="Tahoma"/>
              </a:rPr>
              <a:t>BREAST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SzPct val="65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Tahoma"/>
              </a:rPr>
              <a:t>3D-NMR &amp; </a:t>
            </a:r>
            <a:r>
              <a:rPr b="0" lang="en-US" sz="2500" spc="-1" strike="noStrike">
                <a:solidFill>
                  <a:srgbClr val="ffffff"/>
                </a:solidFill>
                <a:latin typeface="Tahoma"/>
              </a:rPr>
              <a:t>single-slice planar imaging in detecting breast abnormalities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9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dissolve/>
    <p:sndAc>
      <p:stSnd>
        <p:snd r:embed="rId1" name="glas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533520" y="380520"/>
            <a:ext cx="815328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ff"/>
                </a:solidFill>
                <a:latin typeface="Tahoma"/>
              </a:rPr>
              <a:t>MUSCULO SKELETAL SYSTEM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649"/>
              </a:spcBef>
              <a:buClr>
                <a:srgbClr val="ffff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Demonstrates Osteo  myelitis, tumor metastasis in 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vertebral bodies &amp; pelvic bone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649"/>
              </a:spcBef>
              <a:buClr>
                <a:srgbClr val="ffff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Images of muscles, tendons, ligament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ff"/>
                </a:solidFill>
                <a:latin typeface="Tahoma"/>
              </a:rPr>
              <a:t>BLOOD VESSELS &amp; FLOW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649"/>
              </a:spcBef>
              <a:buClr>
                <a:srgbClr val="ffff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Atherosclerotic vascular disease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649"/>
              </a:spcBef>
              <a:buClr>
                <a:srgbClr val="ffff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Assess blood flow in major vessels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ff"/>
                </a:solidFill>
                <a:latin typeface="Tahoma"/>
              </a:rPr>
              <a:t>INVIVO SPECTROSCOPY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649"/>
              </a:spcBef>
              <a:buClr>
                <a:srgbClr val="ffcc66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Chemical shift phenomenon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649"/>
              </a:spcBef>
              <a:buClr>
                <a:srgbClr val="ffcc66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Diagnosis of rare disease to inborn errors-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600" spc="-1" strike="noStrike" u="sng">
                <a:solidFill>
                  <a:srgbClr val="ffffff"/>
                </a:solidFill>
                <a:uFillTx/>
                <a:latin typeface="Tahoma"/>
              </a:rPr>
              <a:t>Mc Ardle’s syndrome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649"/>
              </a:spcBef>
              <a:buClr>
                <a:srgbClr val="ffcc66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en-US" sz="2600" spc="-1" strike="noStrike">
                <a:solidFill>
                  <a:srgbClr val="ffffff"/>
                </a:solidFill>
                <a:latin typeface="Tahoma"/>
              </a:rPr>
              <a:t>INVIVO 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Analysis of Bone flouride content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2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dissolve/>
    <p:sndAc>
      <p:stSnd>
        <p:snd r:embed="rId1" name="glas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433440"/>
            <a:ext cx="7772400" cy="14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261ce4"/>
                </a:solidFill>
                <a:latin typeface="Arial"/>
              </a:rPr>
              <a:t>PUTTING  NMR  IMAGING INTO   PERSPECTIVE</a:t>
            </a:r>
            <a:endParaRPr b="0" lang="en-US" sz="4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Eliminates risk of x-radi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Excellent spatial &amp; contrast resolution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Detecting diseases at earlier stag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5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dissolve/>
    <p:sndAc>
      <p:stSnd>
        <p:snd r:embed="rId1" name="glas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3T08:06:39Z</dcterms:created>
  <dc:creator>Reddy</dc:creator>
  <dc:description>APPLICATIONS OF NMR IN MEDICINE</dc:description>
  <cp:keywords>APPLICATIONS OF NMR IN MEDICINE</cp:keywords>
  <dc:language>en-US</dc:language>
  <cp:lastModifiedBy>LEGION2</cp:lastModifiedBy>
  <dcterms:modified xsi:type="dcterms:W3CDTF">2016-01-14T10:46:12Z</dcterms:modified>
  <cp:revision>58</cp:revision>
  <dc:subject>APPLICATIONS OF NMR IN MEDICINE</dc:subject>
  <dc:title>APPLICATIONS OF NMR IN MEDICINE</dc:title>
</cp:coreProperties>
</file>